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96E-C066-448D-B588-41D187CB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993-6A59-466E-8050-59BC24DD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214-9F75-49C3-B4EA-28EB8DB2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44F-3C2F-4D05-B575-CE0760F8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227-B327-4836-9D3C-0E29FCF6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165-2F34-4FD0-B68F-233458C6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84F-474E-4ABF-BA9E-9FFF2D29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E45-0CDD-4D41-A163-4DB694FF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309-1528-4A32-B23F-0F6E23F8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97E-5A2C-4185-87F1-25A653C0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E5A-9B24-485E-934D-12C5469B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174-54FF-49CC-9F84-CE78268B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0347-7860-4165-A4C9-2C21C3810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47780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288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Art of Paper Fol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600200" y="373392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onila, Princess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onable, Fatima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0" y="16765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4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5"/>
          <a:stretch/>
        </p:blipFill>
        <p:spPr>
          <a:xfrm>
            <a:off x="0" y="3352680"/>
            <a:ext cx="15238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477800" cy="1752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288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"/>
          <p:cNvPicPr/>
          <p:nvPr/>
        </p:nvPicPr>
        <p:blipFill>
          <a:blip r:embed="rId3"/>
          <a:stretch/>
        </p:blipFill>
        <p:spPr>
          <a:xfrm>
            <a:off x="0" y="16765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"/>
          <p:cNvPicPr/>
          <p:nvPr/>
        </p:nvPicPr>
        <p:blipFill>
          <a:blip r:embed="rId4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5"/>
          <a:stretch/>
        </p:blipFill>
        <p:spPr>
          <a:xfrm>
            <a:off x="0" y="3352680"/>
            <a:ext cx="1523880" cy="1838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1752480" y="533520"/>
            <a:ext cx="70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upils will be making an          origami by following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presented by the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which the class will have a culminating activity wherein the pupils will bring anything that is Japanese, then their origami's will  be exhibi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477800" cy="1752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600200" y="3733920"/>
            <a:ext cx="5867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0" y="16765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5"/>
          <a:stretch/>
        </p:blipFill>
        <p:spPr>
          <a:xfrm>
            <a:off x="0" y="3352680"/>
            <a:ext cx="1523880" cy="1838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"/>
          <p:cNvSpPr/>
          <p:nvPr/>
        </p:nvSpPr>
        <p:spPr>
          <a:xfrm>
            <a:off x="160020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Objectives/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2209680" y="2438280"/>
            <a:ext cx="624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understand othe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learn about origami: the Japanese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 of Paper F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develop their skills in orig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hey are concern about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recyc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ami Dog Step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 square piece of paper.  If it is colored paper, put the colored side face down on the table as shown below. Then fold along the diagonal to give a triangl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origami dog ready to fold"/>
          <p:cNvPicPr/>
          <p:nvPr/>
        </p:nvPicPr>
        <p:blipFill>
          <a:blip r:embed="rId2"/>
          <a:stretch/>
        </p:blipFill>
        <p:spPr>
          <a:xfrm>
            <a:off x="1828800" y="2514600"/>
            <a:ext cx="5638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ami Dog Step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fold along the diagonal to give a triangl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origami-dog-folded triangle"/>
          <p:cNvPicPr/>
          <p:nvPr/>
        </p:nvPicPr>
        <p:blipFill>
          <a:blip r:embed="rId2"/>
          <a:stretch/>
        </p:blipFill>
        <p:spPr>
          <a:xfrm>
            <a:off x="1143000" y="1752480"/>
            <a:ext cx="6477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ami Dog Ste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: Now fold the corners together and unfold, to give a crease as show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origami-dog-creased triangle"/>
          <p:cNvPicPr/>
          <p:nvPr/>
        </p:nvPicPr>
        <p:blipFill>
          <a:blip r:embed="rId2"/>
          <a:stretch/>
        </p:blipFill>
        <p:spPr>
          <a:xfrm>
            <a:off x="1676520" y="1676520"/>
            <a:ext cx="5943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ami Dog Ste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: Then fold the dog ears down, using the crease line as a gu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origami-dog ears folded down"/>
          <p:cNvPicPr/>
          <p:nvPr/>
        </p:nvPicPr>
        <p:blipFill>
          <a:blip r:embed="rId2"/>
          <a:stretch/>
        </p:blipFill>
        <p:spPr>
          <a:xfrm>
            <a:off x="1447920" y="1600200"/>
            <a:ext cx="6121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ami Dog Step 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old the top and bottom of the head, away from yo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origami-dog head and chin folded"/>
          <p:cNvPicPr/>
          <p:nvPr/>
        </p:nvPicPr>
        <p:blipFill>
          <a:blip r:embed="rId2"/>
          <a:stretch/>
        </p:blipFill>
        <p:spPr>
          <a:xfrm>
            <a:off x="1600200" y="1523880"/>
            <a:ext cx="5943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og is done! If you like, you can draw eyes, a nose and a mo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origami-dog face drawn with pen or pencil"/>
          <p:cNvPicPr/>
          <p:nvPr/>
        </p:nvPicPr>
        <p:blipFill>
          <a:blip r:embed="rId2"/>
          <a:stretch/>
        </p:blipFill>
        <p:spPr>
          <a:xfrm>
            <a:off x="1447920" y="1447920"/>
            <a:ext cx="6476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4:39:14Z</dcterms:created>
  <dc:creator>user </dc:creator>
  <dc:description/>
  <dc:language>en-US</dc:language>
  <cp:lastModifiedBy>ariel tecson</cp:lastModifiedBy>
  <dcterms:modified xsi:type="dcterms:W3CDTF">2010-09-18T03:02:21Z</dcterms:modified>
  <cp:revision>7</cp:revision>
  <dc:subject/>
  <dc:title>Origami Dog Step 1: Start with a square piece of paper.  If it is colored paper, put the colored side face down on the table as shown below. Then fold along the diagonal to give a triangle. </dc:title>
</cp:coreProperties>
</file>